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19B-9015-495D-ADF4-9D73BFE4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2D8-50FF-48C3-B444-A36BE562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CAE65-6770-45BC-866E-55621730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3A61B-CF30-49A5-B0F0-677491B5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59C43-04FE-4CFB-999C-2102422B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0924F-04C1-474B-A9E0-FAD3B41B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394E0-ECC1-4148-8BE3-961F5DBD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C2FEC-11A9-41FB-A293-CE1F9D8F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1C761-7AAB-4D48-B075-04FD3F30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BBB92-728F-42A2-ACAE-1C5FBD44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33E5B-FB39-47FF-87DC-1619694A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BE3D6-84F8-4232-8606-A4ADF492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8C8-EFA0-49C3-824F-885419F8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E9F86-AEAC-40F5-920E-2745CC2E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393D0E-08C5-428D-B30D-5BE1F16E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3CCC9B-B814-47D7-801B-721D4022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D7DE1-BFCE-4465-93A9-C24A3725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200A9-8B4A-4DEC-8FDF-023BA508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6646F-C078-41E4-9A79-80B98C14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D1ACC-EEEE-4E0E-A1F8-6B8DB4DC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AF3F7-DFB0-4ADA-ACF1-20CB51AB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10B44-CB12-4B4E-8E87-319CDFC9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B4267-15EA-4608-B070-9F2AE762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AAD-8046-4F36-A623-238C8737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8B72F-E9AB-4A3A-B3F3-D6C65C73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370906-69A7-430D-8695-3D4C0F1A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5DF41D-F946-4993-BF3E-46736B97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BB0FAD-4F5D-4A69-B206-D5541742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AD9DCA-B3D0-4FBB-AB37-498480F4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E9CC96-C0DF-43AF-9E35-E9618680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BE4AC6-EDD1-466C-9484-B624D3FD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150430-6656-46A6-A2A3-1EBD35FF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32DF3B-A0BD-448C-9201-C13734BB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7BF979-4139-4983-8B40-318F1427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992D-D1D7-402F-8C39-16E5DAE7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1E8F22-818A-4A46-BFEE-9C974C5F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AF70A1-C52E-4598-BECC-9059C6ED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CD5DDB-9625-47FD-83DC-D2C10FC1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00E3B9-307A-49E9-BFA7-78534E6A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F35DEE-918B-4DC6-927C-3C4D8505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EBFA30-5755-426D-8992-43A6D788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95C997-3718-4EFC-80C9-114F4407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957B92-2549-4F6E-BB23-9F37012D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849B87-34CB-4163-82BF-92602A56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63A506-AAC3-4011-89A8-63BE8516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EA31-B1DD-45DD-AD54-2CDB7470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20EADF-0A6A-4228-B011-8EA739DF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414061-87EE-466F-89A6-74500BC2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160C5B-AE92-4C63-89A0-976725BA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75C12D-7B47-4D8D-9DB4-CC5FF764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19EB0A-19A9-4507-872C-D676BC4C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F4D3-2B99-4387-AEE3-BF46705B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A0F9-70AF-47B1-8CED-64C80DCD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87AD-AAB7-43E8-BA44-6B0D1FA5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E058-656E-4FA2-8E67-834C5EE0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25F5-7D5B-40B4-94F8-98EDCB1F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BE1-EA9F-4064-8C00-80BBB44E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BA1F-1259-4B61-9F68-6FAEB52E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3550-B375-4B31-B02B-EB26043B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16DA-901F-44F8-905B-0085A367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0420-3B16-4931-9915-332E7601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36CC-C334-4E7B-B286-8A5F3A4A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6B46-C227-48C9-8F00-539A3FF2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E6B85-BB8D-40B5-8F22-DE08648C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434B7-B77B-498D-AB22-AB1D3845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94494-641F-4366-8A3D-99842940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C354F-D5E7-42E2-9519-7BD3772D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2A1-699C-41F0-AD7F-6219ECCA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FDDFF-95D0-4D5E-9820-2BE51D41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361F9-5771-4FB9-A938-3E28AB5D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7D9D4-83B2-4AED-BBB0-49BD808B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0E0FC-8C2F-440B-8A13-2344A2A5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C54D-F59F-4048-9E45-1B126E09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BA811-5A56-427E-A632-73715228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96E6C-22F0-47BF-8612-01AF89F8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F48AE-0E48-4411-9D0E-E04B801D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4D6A7-4A7D-4A8C-99D9-01D9F606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8CCB1-7413-4201-8871-8E51278B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287-92BE-441E-94DA-60200ED1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9C351-3324-4F2F-9717-0F22CD00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9229A-49FA-4DED-A2B5-EA38F573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C04C5-9AEE-4CA8-A3A7-A0D098F2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B0310-2474-42FF-82C7-6C3B5A65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2EF4B-1C23-4D5A-977E-2BD9E40C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79F2B-FF8D-4558-93EC-44CF0D76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FFA0F-57FF-469F-98DD-D1DD2C51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7E14-0C31-4E44-8BC2-FD21459B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EEF8F-9217-4BF1-AC74-90DDDDC5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ABAA8-8B15-4A89-9394-38EC2EF7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7BC-7E99-40F5-87AC-80CF271D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2AA97-1059-4DC9-B758-A79ADD3A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8DB21-AAE7-42D6-8CFB-0B5B46BD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0498D-A4D6-44F7-AB9D-C78639E4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E9E8E-7DE4-41C2-AB65-C766858A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E5FC7-16CA-4961-9F7D-692EA44B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ED691-845D-4119-9105-3A234AC8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BE8C1-1D12-4438-92D5-3FF33A4C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D5139-026A-4991-B8A5-31CC81F6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51B11-A3A3-4FCF-A6E4-65DE1479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ACD35-B65E-449A-BF24-9AA7B761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EAE-51EC-422B-B1C8-7D1E152E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E59D0-8D0C-4C87-8397-4885F9BD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2EEF9-7EB9-4834-9F77-3A93F186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0D6A9-FF05-4418-A237-4E12EF01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34CC0-0107-412D-BCA6-A0BA3260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CA9F1-41EC-463E-AAFA-8F6954EF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DCF8C-016B-43E3-AE97-7210A6E8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F6879-EC63-4F34-AD35-CED871CF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53127-7A9E-470D-B7C9-A5278FCB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845F4-497B-4125-BB4C-FD3A8B87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D7243-2308-47E3-8701-CA1D57CA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FF1-2621-475A-A638-617D0AF3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84CDB-7C9A-43F1-811A-20846373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1709C-0D71-447F-9185-CB7E8388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DBE57-708D-47EE-B96D-FE941D13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734A3-AE50-4833-BE85-B0F622D2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B8B84-7F49-4465-BA4D-0DF15864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19C34-892A-4C16-978A-4D73E72B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EC009-BAB6-4A16-BA34-8F65CA15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1E9C8-0B18-4C5D-91B8-11D23A2A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DE59C-3CBB-47B9-81F6-CD37D554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912DC-ABE8-498D-8AAB-A8E57A24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E75-9144-4A8C-BA06-39367B1D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DA70B-A4A8-46F1-887C-5BC5CF54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7ABA9-8DBF-4614-B1FD-E3B52569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3749D-46A2-45F5-8046-FAE63C73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C5917-722A-4B67-8A7A-A89B6070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942BF-DF6D-4A0B-91AD-D458E0BA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1D38A9-ED3B-41B7-A60C-E879D0A5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B49FB0-21B6-4063-8EF9-0481C999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7DD240-75E2-4764-B999-DBDF5CFB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D7BDF2-1250-492F-BBF6-42314757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76D724-DBB4-4057-BAE5-FB66B32F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CA7-2C73-4C98-B7CD-78116B60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70FB23-4564-4246-84EB-0C29384F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88C9A2-4587-4E15-B5A3-DE3C4BF2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7C44EE-0A9C-4F26-849C-24D6B192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ABA2CC-7139-4C0A-AFA1-74B5A22A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CC92DA-EFB6-4282-A219-6BDB25A8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1147FD-7A77-4C8F-AB96-880CCF64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868661-0C55-42A8-BD8C-BB1844F4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6C59E-A453-42A8-AD29-C67A4563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610B8-4FAB-49D7-9C4F-7AC9B6D3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5030A-5CF1-4F92-A6F2-EE6B38F1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127F-1BED-440C-AE92-8B5FC784E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F49F-DD2E-4757-BA22-E4EEF9ED5C3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dt" idx="3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6001-B839-4567-ADC0-2F42C759EF6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3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3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F285-6D32-4B6D-99AC-86E2BC1679E1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3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EB90-031C-4C10-8A28-01CC678FCA2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B9AA-D7F3-49BD-9FE4-9F9CA42C7BB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CB41-FDC9-4005-8001-1671F92FF3D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73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71B2-2662-46AC-8D6B-5FA0FAB6765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097E-1E1C-473F-A8E5-94FE9B3AB4E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0012-CB69-46CD-B860-0873B5FB46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2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2CD6-DEFC-4EFA-9639-A3C9D5374C3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F883-C9C4-4BE3-B0FF-AAF27B865981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artacus.schoolnet.co.uk/GERribbentrop.htm" TargetMode="External"/><Relationship Id="rId2" Type="http://schemas.openxmlformats.org/officeDocument/2006/relationships/hyperlink" Target="http://www.jewishvirtuallibrary.org/" TargetMode="External"/><Relationship Id="rId3" Type="http://schemas.openxmlformats.org/officeDocument/2006/relationships/hyperlink" Target="http://www.encyclopedia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Title 1" descr=""/>
          <p:cNvPicPr/>
          <p:nvPr/>
        </p:nvPicPr>
        <p:blipFill>
          <a:blip r:embed="rId1"/>
          <a:stretch/>
        </p:blipFill>
        <p:spPr>
          <a:xfrm>
            <a:off x="633240" y="1755720"/>
            <a:ext cx="7882200" cy="20415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267080" y="518148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aly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3" descr="Bundesarchiv_Bild_102-18083,_Joachim_von_Ribbentrop.jpg"/>
          <p:cNvPicPr/>
          <p:nvPr/>
        </p:nvPicPr>
        <p:blipFill>
          <a:blip r:embed="rId2"/>
          <a:stretch/>
        </p:blipFill>
        <p:spPr>
          <a:xfrm>
            <a:off x="1143000" y="3733920"/>
            <a:ext cx="190512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119"/>
                </a:solidFill>
                <a:uFillTx/>
                <a:latin typeface="Calibri"/>
                <a:hlinkClick r:id="rId1"/>
              </a:rPr>
              <a:t>www.spartacus.schoolnet.co.uk/GERribbentrop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119"/>
                </a:solidFill>
                <a:uFillTx/>
                <a:latin typeface="Calibri"/>
                <a:hlinkClick r:id="rId2"/>
              </a:rPr>
              <a:t>www.jewishvirtuallibrary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19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19e2f"/>
                </a:solidFill>
                <a:uFillTx/>
                <a:latin typeface="Calibri"/>
              </a:rPr>
              <a:t>gi.grolier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19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19e2f"/>
                </a:solidFill>
                <a:uFillTx/>
                <a:latin typeface="Calibri"/>
              </a:rPr>
              <a:t>Ourcivilisation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8119"/>
                </a:solidFill>
                <a:uFillTx/>
                <a:latin typeface="Calibri"/>
                <a:hlinkClick r:id="rId3"/>
              </a:rPr>
              <a:t>www.encyclopedia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96464"/>
                </a:solidFill>
                <a:latin typeface="Franklin Gothic Book"/>
              </a:rPr>
              <a:t>Before Entering the Nazi Party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ibbentrop was the son of a German Army offic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 was born in Germany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pril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1893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e went to school in Switzerlan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26" name="Picture 3" descr="germany_map.jpg"/>
          <p:cNvPicPr/>
          <p:nvPr/>
        </p:nvPicPr>
        <p:blipFill>
          <a:blip r:embed="rId1"/>
          <a:stretch/>
        </p:blipFill>
        <p:spPr>
          <a:xfrm>
            <a:off x="6324480" y="4241880"/>
            <a:ext cx="214488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ranklin Gothic Book"/>
              </a:rPr>
              <a:t>Before entering the Nazi Party Cont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Journalist in NYC and Boston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lso, he fought in WWI on the Easter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ront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29" name="Picture 3" descr="large_WWI_7.jpg"/>
          <p:cNvPicPr/>
          <p:nvPr/>
        </p:nvPicPr>
        <p:blipFill>
          <a:blip r:embed="rId1"/>
          <a:stretch/>
        </p:blipFill>
        <p:spPr>
          <a:xfrm>
            <a:off x="2971800" y="3581280"/>
            <a:ext cx="30481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4a1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4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became a member in 193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 was the forgien policy expe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ter he became the Ambassador of Lond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3" descr="images.jpg"/>
          <p:cNvPicPr/>
          <p:nvPr/>
        </p:nvPicPr>
        <p:blipFill>
          <a:blip r:embed="rId2"/>
          <a:stretch/>
        </p:blipFill>
        <p:spPr>
          <a:xfrm>
            <a:off x="3886200" y="3733920"/>
            <a:ext cx="214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le 1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242560" cy="124452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igh Tower Text"/>
              </a:rPr>
              <a:t>He was influential in the formation of the Rome-Berlin Axis, and in the conclusion of the Russo-German nonaggression pact of August, and in planning the attack on Poland that set off World War 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457200" y="1599840"/>
            <a:ext cx="4495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1d77f"/>
                </a:solidFill>
                <a:latin typeface="Lucida Bright"/>
              </a:rPr>
              <a:t>    “</a:t>
            </a:r>
            <a:r>
              <a:rPr b="0" lang="en-US" sz="2600" spc="-1" strike="noStrike">
                <a:solidFill>
                  <a:srgbClr val="f1d77f"/>
                </a:solidFill>
                <a:latin typeface="Lucida Bright"/>
              </a:rPr>
              <a:t>I assure you we are appalled by all these persecutions and atrocities. It is simply not typically German! Can you imagine that I could kill anyone?  Tell me honestly do any of us look like murderers?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36" name="Picture 4" descr="images1.jpg"/>
          <p:cNvPicPr/>
          <p:nvPr/>
        </p:nvPicPr>
        <p:blipFill>
          <a:blip r:embed="rId1"/>
          <a:stretch/>
        </p:blipFill>
        <p:spPr>
          <a:xfrm>
            <a:off x="5257800" y="1419120"/>
            <a:ext cx="2133720" cy="3175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images13234.jpg"/>
          <p:cNvPicPr/>
          <p:nvPr/>
        </p:nvPicPr>
        <p:blipFill>
          <a:blip r:embed="rId2"/>
          <a:stretch/>
        </p:blipFill>
        <p:spPr>
          <a:xfrm>
            <a:off x="6248520" y="3505320"/>
            <a:ext cx="2230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Title 1" descr=""/>
          <p:cNvPicPr/>
          <p:nvPr/>
        </p:nvPicPr>
        <p:blipFill>
          <a:blip r:embed="rId2"/>
          <a:stretch/>
        </p:blipFill>
        <p:spPr>
          <a:xfrm>
            <a:off x="438120" y="255600"/>
            <a:ext cx="8267760" cy="11826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b4a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4a76"/>
                </a:solidFill>
                <a:latin typeface="Tempus Sans ITC"/>
              </a:rPr>
              <a:t>He was dismissed be Admiral Karl Doenit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b4a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4a76"/>
                </a:solidFill>
                <a:latin typeface="Tempus Sans ITC"/>
              </a:rPr>
              <a:t>Then he was captured by British forces and convicted of War Crimes. Eventhough, Ribbentrop denied knowledge of German concentration camps and racial extermination poli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b4a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78b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Title 1" descr=""/>
          <p:cNvPicPr/>
          <p:nvPr/>
        </p:nvPicPr>
        <p:blipFill>
          <a:blip r:embed="rId1"/>
          <a:stretch/>
        </p:blipFill>
        <p:spPr>
          <a:xfrm>
            <a:off x="396720" y="237960"/>
            <a:ext cx="8345520" cy="125604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3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385a"/>
                </a:solidFill>
                <a:latin typeface="Arial Black"/>
              </a:rPr>
              <a:t>He was hanged in Nuremberg on October 16, 194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3" descr="imageseu.jpg"/>
          <p:cNvPicPr/>
          <p:nvPr/>
        </p:nvPicPr>
        <p:blipFill>
          <a:blip r:embed="rId2"/>
          <a:stretch/>
        </p:blipFill>
        <p:spPr>
          <a:xfrm>
            <a:off x="1676520" y="3276720"/>
            <a:ext cx="22017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10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Title 1" descr=""/>
          <p:cNvPicPr/>
          <p:nvPr/>
        </p:nvPicPr>
        <p:blipFill>
          <a:blip r:embed="rId1"/>
          <a:stretch/>
        </p:blipFill>
        <p:spPr>
          <a:xfrm>
            <a:off x="1573200" y="4552920"/>
            <a:ext cx="5864400" cy="817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FS1JINCAD79YYPCAMGTWQ3CATHPQONCAHO2NS9CAOSQ3WZCA32BPC8CA5DL8TQCABF2TGACARRGLQICAUHUINTCAMR5FABCA67YJBTCAHQZNVVCA9QRZHPCAVGG52JCAOOO1ZVCAZI3L66CAAEBEC1CAWLXD49.jpg"/>
          <p:cNvPicPr/>
          <p:nvPr/>
        </p:nvPicPr>
        <p:blipFill>
          <a:blip r:embed="rId2"/>
          <a:stretch/>
        </p:blipFill>
        <p:spPr>
          <a:xfrm>
            <a:off x="2438280" y="457200"/>
            <a:ext cx="3810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7:19:21Z</dcterms:created>
  <dc:creator> </dc:creator>
  <dc:description/>
  <dc:language>en-US</dc:language>
  <cp:lastModifiedBy> </cp:lastModifiedBy>
  <dcterms:modified xsi:type="dcterms:W3CDTF">2009-11-24T17:01:12Z</dcterms:modified>
  <cp:revision>14</cp:revision>
  <dc:subject/>
  <dc:title>Slide 1</dc:title>
</cp:coreProperties>
</file>